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A94-E6B8-4F41-8F90-A494E186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D4E-F05B-43C2-BE0E-724AECF5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D7F-3AE1-4561-8F60-3E286743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131-DD34-47EB-94D2-7516477B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8390-FAB5-4695-A8B8-0D9B1A65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7DBA-C93E-441E-88AD-2BF1AE87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EF5-6A99-48A4-88DD-457E81F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B524-3C2B-4C86-8560-1021DDE1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3D7-DEF2-4A58-B12D-825063E1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74A-8BB9-44F1-8B47-E2737822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8EFB-5AAF-4B7F-9BD3-7899D120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63D-F413-4B5B-BE7B-629D890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D246-61B2-4596-AF3E-7E66954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ABF8-460B-4483-AD29-C9A859C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34CC-852D-445F-A489-71AC8079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485-210D-43DF-B50E-6C933B65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D91D-388B-404A-88DE-F3D8EDAA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ABF-2044-4896-B4A1-460CBF5C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6C2-81A5-4ADE-9970-7DA024E9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E5F-C459-4B03-8F81-A36A03D9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5F0-E5C0-414B-9A5D-84C5D622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74B-BB18-4080-97FA-523FB8C8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BB5-84A8-420B-A975-AB14E6E0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574-C7D2-48C4-BCC0-F0ACA81E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99FE-87C3-4584-9175-3250A1A0A1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C780-8C16-48B9-BF54-A326886267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History of the C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07-00-Cell.jpg"/>
          <p:cNvPicPr/>
          <p:nvPr/>
        </p:nvPicPr>
        <p:blipFill>
          <a:blip r:embed="rId1"/>
          <a:stretch/>
        </p:blipFill>
        <p:spPr>
          <a:xfrm>
            <a:off x="1447920" y="2438280"/>
            <a:ext cx="601956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name the jelly-like material in a cell. Called it sarco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code was later renamed protopla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2895480" y="3733920"/>
            <a:ext cx="30481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plant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781680" y="3809880"/>
            <a:ext cx="1771920" cy="2189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200400" y="3886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odor Schwan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conclude that all animals are made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635880" y="2643120"/>
            <a:ext cx="63360" cy="10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095880" y="3809880"/>
            <a:ext cx="2819520" cy="1900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[Theodor Schwann]"/>
          <p:cNvPicPr/>
          <p:nvPr/>
        </p:nvPicPr>
        <p:blipFill>
          <a:blip r:embed="rId6"/>
          <a:stretch/>
        </p:blipFill>
        <p:spPr>
          <a:xfrm>
            <a:off x="457200" y="3429000"/>
            <a:ext cx="203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572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reproduce: that is where new cells come fr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cell exists, there must have been a pre-existing cell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Image:Rudolf Virchow.jpg"/>
          <p:cNvPicPr/>
          <p:nvPr/>
        </p:nvPicPr>
        <p:blipFill>
          <a:blip r:embed="rId4"/>
          <a:stretch/>
        </p:blipFill>
        <p:spPr>
          <a:xfrm>
            <a:off x="5361120" y="1981080"/>
            <a:ext cx="2765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Cell Theo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ll living things are made of cells. (Schleiden = plants, Schwann = anim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ells are the basic units of structure and function in living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w cells are produced from existing ce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irch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a 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a timeline of the people involved in the discovery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name of the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year of their disco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hat their discovery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se cells the same and how are they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04920" y="1600200"/>
          <a:ext cx="31986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319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4475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07-04x2-EColi.jpg"/>
          <p:cNvPicPr/>
          <p:nvPr/>
        </p:nvPicPr>
        <p:blipFill>
          <a:blip r:embed="rId4"/>
          <a:stretch/>
        </p:blipFill>
        <p:spPr>
          <a:xfrm>
            <a:off x="1219320" y="4191120"/>
            <a:ext cx="2528640" cy="2189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H="1">
            <a:off x="11412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2990880" cy="224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867280" y="1523880"/>
            <a:ext cx="3048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the basic unit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ell is a structure within a living thing that has a boundary surrounding the material in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590920" y="3429000"/>
            <a:ext cx="41907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mall is a c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07-01-CellSizeScale-L.gif"/>
          <p:cNvPicPr/>
          <p:nvPr/>
        </p:nvPicPr>
        <p:blipFill>
          <a:blip r:embed="rId1"/>
          <a:stretch/>
        </p:blipFill>
        <p:spPr>
          <a:xfrm>
            <a:off x="3048120" y="1219320"/>
            <a:ext cx="3252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re cells discove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entists were curious about what living things were made o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hey created microscopes to take a closer look at living th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2036520" cy="203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095880" y="41148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main people involved in the discovery of ce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 van Leeuwenh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lix Dujard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ias Schlei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 Scwan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dolf Virch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on von Leeuwenho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see and describ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simple microscope (one le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tiny living organisms in a drop of pond water (“wee beasties”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143000" y="4359240"/>
            <a:ext cx="2584440" cy="2325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343400" y="4300560"/>
            <a:ext cx="42670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Hoo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6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use the term, “cell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a compound microscope (2 lens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a slice of cork (dead cell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d for seeing, describing, and expl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324480" y="1600200"/>
            <a:ext cx="1737000" cy="2189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319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ert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3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o identify 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ed that nucleus was doing something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495440" y="4038480"/>
            <a:ext cx="187632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419720" y="40384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3:05:11Z</dcterms:created>
  <dc:creator>Theresa DeLaurentis</dc:creator>
  <dc:description/>
  <dc:language>en-US</dc:language>
  <cp:lastModifiedBy>Theresa DeLaurentis</cp:lastModifiedBy>
  <dcterms:modified xsi:type="dcterms:W3CDTF">2007-03-04T05:40:08Z</dcterms:modified>
  <cp:revision>14</cp:revision>
  <dc:subject/>
  <dc:title>Are All Cells Alike?</dc:title>
</cp:coreProperties>
</file>